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F6651-4623-41C5-8DBF-297F2502B9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BB9B0-5280-4AE4-90C5-80912FC7F9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D2006-F6DC-4742-8DDF-2283082C9B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recent web search on the phrase, “project-based learning”, returned a list of over a half-million web p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ts of information out there – some of it probably conflic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enough time to carry out a full-scale investigation of PB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concentrate on the general notions of, “What does it look like?” and “Why use it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57A47-DA25-475F-AE9E-BE0A445D19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25EFE-D68B-4677-8046-213D8584DC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characteristics are from the ISTE-published book, Project-based Learning Using Information Techn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 be similar to other lists you’ve seen, but this list addresses the points of view of the two major participants in PBL – the teacher and the stud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characteristics form the basis of the rubric we will use to analyze a few examples of Project-Based Lear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A3B21-7B6A-4BA6-A865-797B56F80B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8DBD1-0E6D-4CDD-AC84-11B0623FDE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07AAC-F705-4D26-A504-F72BCE9D98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handout, “Project Idea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77812-07E3-4EBB-A196-920CAA2E1B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use of Project-Based Learning is supported by these areas of educational 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BADBB-7A7F-4A8D-93D6-5C2058607E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iterature available on PBL includes many non-research-based, “testimonial” articles by teach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five benefits are widely reported by teachers who use PBL with their stud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2A48F-962D-4E4B-A4B8-456AF260F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570D2-4664-491D-8534-1AF60065A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242AB-3A6F-4995-BAF8-6539D2059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B76AA-6E63-4E31-8F43-6B5882428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9DF4A-DBE7-4613-A5B0-86155E014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5B191-DAD5-4C5C-8AC7-5AC3E3860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6F247-E5EC-43E9-8045-0472F2D3D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41644-C652-4550-A939-E5A1996F9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4B2F8-9081-4FA2-84C9-638E776D7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24553-9AAF-40BD-8215-15CD49903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7CC60-DA55-4404-8D6C-0582E99B4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DCD13-0E9E-45FB-9047-A5FF39195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D3A5B-6FD8-4B87-875D-88F3206944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-Based Lear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is Project-Based Learn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0" descr=""/>
          <p:cNvPicPr/>
          <p:nvPr/>
        </p:nvPicPr>
        <p:blipFill>
          <a:blip r:embed="rId1"/>
          <a:stretch/>
        </p:blipFill>
        <p:spPr>
          <a:xfrm>
            <a:off x="304920" y="1523880"/>
            <a:ext cx="8534160" cy="511200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52" name="Picture 11" descr=""/>
          <p:cNvPicPr/>
          <p:nvPr/>
        </p:nvPicPr>
        <p:blipFill>
          <a:blip r:embed="rId2"/>
          <a:stretch/>
        </p:blipFill>
        <p:spPr>
          <a:xfrm>
            <a:off x="533520" y="2743200"/>
            <a:ext cx="4800600" cy="100332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53" name="Picture 12" descr=""/>
          <p:cNvPicPr/>
          <p:nvPr/>
        </p:nvPicPr>
        <p:blipFill>
          <a:blip r:embed="rId3"/>
          <a:stretch/>
        </p:blipFill>
        <p:spPr>
          <a:xfrm>
            <a:off x="4876920" y="4114800"/>
            <a:ext cx="3504960" cy="65880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sp>
        <p:nvSpPr>
          <p:cNvPr id="54" name="AutoShape 13"/>
          <p:cNvSpPr/>
          <p:nvPr/>
        </p:nvSpPr>
        <p:spPr>
          <a:xfrm>
            <a:off x="2286000" y="1981080"/>
            <a:ext cx="609480" cy="685800"/>
          </a:xfrm>
          <a:prstGeom prst="upArrow">
            <a:avLst>
              <a:gd name="adj1" fmla="val 50000"/>
              <a:gd name="adj2" fmla="val 28131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14"/>
          <p:cNvSpPr/>
          <p:nvPr/>
        </p:nvSpPr>
        <p:spPr>
          <a:xfrm>
            <a:off x="5867280" y="2362320"/>
            <a:ext cx="609840" cy="1676160"/>
          </a:xfrm>
          <a:prstGeom prst="upArrow">
            <a:avLst>
              <a:gd name="adj1" fmla="val 50000"/>
              <a:gd name="adj2" fmla="val 68713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Does it Look Lik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Foot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TE - Project-based Learning Using Information Technolo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racteristics of PB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7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tudent P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rner Centered, Intrinsically Motiva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aborative and Cooperative Lear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mental and Continual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ely Engaged Stud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t, Presentation, or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llenging, with a Focus on Higher-Order Ski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9760" y="1600200"/>
            <a:ext cx="4037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eacher P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hentic Content and Purp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hentic Assess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acher Facilit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icit Educational Go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ed in Constructivism, but Uses Multiple Methods of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ilitates Transfer of Lear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acher as Lear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racteristics of PBL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ent P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rner Centered, Intrinsically Motiva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laborative and Cooperative Lea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mental and Continual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ively Engaged Stu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duct, Presentation, or Perform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llenging, with a Focus on Higher-Order Ski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racteristics of PBL</a:t>
            </a: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er P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thentic Content and Purp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thentic Assess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er Facilit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licit Educational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oted in Constructivism, but Uses Multiple Methods of Instr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cilitates Transfer of Lea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er as Lear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l - Designing Effective Projec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ypes of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rvice Lea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ulation/Role Pl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truction and 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lem-Sol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lecollabora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bQu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TE - Project-based Learning Using Information Technolo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Do PBL?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ed by These Areas of Re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uctiv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tuated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ion The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quiry-Based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operative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blem Solving and Collaborative 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blem-Based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uman Intellig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TE - Project-based Learning Using Information Technolo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Do PBL?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ecdotal Evid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ased Moti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ased Problem-Solving Ski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roved Research Ski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ased Collabo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ased Resource-Management Ski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5T03:34:56Z</dcterms:created>
  <dc:creator>david g morrow</dc:creator>
  <dc:description/>
  <dc:language>en-US</dc:language>
  <cp:lastModifiedBy>David G. Morrow</cp:lastModifiedBy>
  <dcterms:modified xsi:type="dcterms:W3CDTF">2008-10-13T22:33:36Z</dcterms:modified>
  <cp:revision>28</cp:revision>
  <dc:subject/>
  <dc:title>Slide 1</dc:title>
</cp:coreProperties>
</file>